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5CAF-7C20-46C2-BB5D-E85B690247D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B2AE-682E-444E-AD55-FD808C5CD9F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1557-D6B7-4531-A94C-CA8170A41B8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09B2-99D3-4B57-A9D2-BF2A99FB9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6285-869E-43AE-BDE7-CC986A1B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EEE41-FFF0-4737-ACC3-6A3BBD79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9A9CC-560F-4CDD-9F25-DB7B5F90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83CF1-6A12-4B4A-9928-D6A9B764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21C56-DC9C-474A-BD04-35E7AEE1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9A902-D78C-461A-A223-D9877FA0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63228-E322-49C6-A914-026831A0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0129D-AEA0-4632-A1E7-CBAC5ADE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15FBE-357A-4CFB-8778-D3731B4CC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D4039-9F78-4054-9FEF-7D41ED84D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AA819-4AE6-44E2-BF55-10AC6BC3C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EA24-2F15-48E9-9DB1-412DE75C2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07786-CFED-4CBA-BAC6-9D12A9F6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B1E58-5C62-4318-9BF4-2F5EF85E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AFDD9-D650-449D-90BE-D834F190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4433A-9291-4D7E-B9C3-58FA8E3C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F589D-BA70-410F-AAD1-A5A26F59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254587-45AC-4BFF-8576-05A19CC5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1B7FFE-C7BA-48CA-A4A5-D56533F8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B4E9C-8EB6-45AF-8DD5-7A398866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9118FF-3543-429B-AB7C-3B3D9E0B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9AF5E-ACCF-4814-83A5-7CE740807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1F31-4A16-4806-8594-8130038F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754AC-F6D0-427C-8005-384172F38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0CAB3-CC65-4466-B8D6-BACD58529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929D9-5E33-4A84-BEDB-A382E0E7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AC1D0-330A-49FF-8BEC-363436FA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011B5-1F14-4DBC-99BA-66C23442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33EC5-BA75-4DE9-9C88-94063D64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307AF-6B01-440F-8105-A8E760BB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BE53A-C7F4-4791-9F6E-38EBBBE7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F13E5-2893-4D41-AF29-6D2E20ED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0457B-3213-4DB8-BFE6-75C8FD22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7F66-7C38-4A4E-AE1E-B41B5A384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D903D-A20D-4434-92B4-F27216A9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75BA2-1E08-4E94-B9B1-109567093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5E9EB-2F58-430D-BB6B-1CEF65EC5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28DC-2686-41F8-A6E2-1CC577B9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1B49-75EF-4814-BC42-04F36D2E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639F-77F8-434A-9323-14FE7795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C916-EB13-4B7A-B597-33F53E80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3F2D-1B4F-4F44-BB48-56501DA1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FF11-8E5A-4D0F-AAA2-F1F7CAE2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A9B2-1BB8-4C7C-AFEF-45087B5A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04AB-9EE4-492C-9B07-7AAB6D00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0B7D-9002-4446-A759-B7628713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E109-8B85-4FB5-9947-052B78D8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F5E0-EE85-46CA-939E-6129C5FFD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8618-8423-45DC-9D82-DC09F1F01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77110-64E8-4EC8-91A0-1F3C9DDF5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3A98B-4D33-4B66-8660-0584C1DA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F65A8-D3C4-4F76-9FCC-71DD47F4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0E794-DBB9-4AF1-9D75-BABBA745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B72D5-0A39-4A08-92E8-3D39BF6A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79A7-7B70-4CFF-80E7-82EF047C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3A964-AFEC-4953-846E-B19859AD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EEB54-E91E-45F0-8913-7D1D60AA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D9586-38F3-45E2-A73D-402FD408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41794-BE1A-4486-B828-E118893A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EA170-271F-4D34-A26D-797AC835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F30E9-1A6D-46C4-9A4C-34C586536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34955-53A4-48B0-8627-6815871D5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A8B34-4251-42C3-8C52-E789DB016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1B207-BBD6-40E2-8B08-1769B47A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15557-DD0D-4807-8DD5-F6E0F8BF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1371-B5E9-4272-8838-EBFE3DED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9FBF2-FF97-4EC8-9B81-C6490B85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3E4A5-FDBF-4D8C-AD8D-C230ABFB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07943-947E-456E-AE62-488356ED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A78E1-8D0D-4909-BC14-F4AD7E86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0EB40-28F0-4595-9CEE-FC1C5075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37EC7-3A37-4F1C-8CFF-3402D3C7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A0FF8-E328-48EF-B321-CBE31BEC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A31F1-0EF0-45D5-AECC-2ABF107D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62BD1-3E70-4ED3-9758-2244232D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6CA4C-0353-4A47-93B1-F140B3A27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F3D2-A18C-4215-A0D5-0FEBE22F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E4EB1-536C-4A36-8775-615A2EF8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B15B6-14B9-446E-8066-5F42CBBE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A2C6E-BDFA-4DE9-897A-CBF53A58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8D7C1-E6DE-44C9-9C16-6B16AAE4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90BD2-183F-4CC2-BDEF-375A47D3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0DEDD-EFE5-4C99-8D1B-A0659252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EC7B2-B7D7-4AE6-BD89-B63B15DB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FF16A-78FB-450E-816B-9383D76F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83D65-05B0-4816-B2B5-88966711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A62F0-31B1-4CA0-9711-C5000089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59D2-113E-476D-A072-3E89163B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A665D-CE17-4693-97D6-DF775629B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E0C5D-791F-4A34-99E1-3D645326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5856B-4B3F-4100-ADD7-54B72196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DD810-2D40-4A10-85D9-47BE3FB2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BF44A-13B7-49A7-A4EC-CCBDEC2D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976D2-90B6-40AD-B25A-57B5A3B5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50F1C-7733-45B8-A5D4-79754EB0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A4E34-FDD8-4C95-B6FE-75E730AD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6619F-3F21-49B4-9EFD-57077359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60138-82E6-4A7F-A70C-8B95E0BB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D886-EC60-4CFC-B966-89EC9006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800EB-278E-470A-BF62-9E0B9F51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D3853-95B1-4671-AA28-5C96616EF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5BF71-D8E9-4773-8307-5C10EE27A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CA217-8D30-4AE0-A7B3-8385FB6B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CF4D3-B18E-47CD-8342-21B3BC35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88B4D-D37C-4248-A626-9DAAAB03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56C76-A2E2-463E-8054-FE9AD02C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B4CBB-0608-4AE7-904B-7879C752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BCEB9-7CC2-45AA-A4E5-EFF67199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B106E-45E8-4112-8357-0C78D4FE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9701-FB9D-44E9-A50B-EEBCF541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B1709-E2A0-44BD-AA2A-C27B3CC7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7CCC1-9B06-48B9-8AC4-2D1E7534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21E2C-1B71-46C8-B132-607F57B9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7F436-4F46-4689-A0F6-36678F4AA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71330-41DC-4E40-9EAF-395DEF92B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DE380-098D-4208-8C8A-4855F74A7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D2F52-F0BE-4C2A-834D-8B1C819C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AAC74-01B7-4E76-81A5-633D8BC6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7C0FA-10EC-4AC8-9FB0-8202B118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62395-9F7E-4787-B8DA-6FB64B75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8C3F-4734-47E5-9F52-494476BE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4440D-A91A-4E35-B7E4-5125DD47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E1C6C-EBC1-4EAD-A250-CF9479FA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8FFF7-FE4B-40A3-9496-44A9EFB7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00ED5-45D9-4F0A-82AD-E4B7CFD0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2769F-9734-41A3-A14C-9655BA86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6A3F5-0154-4384-B5C2-C1C692DA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39E99-96C7-402A-B20F-7AFEB1E3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7EBD1D-58D8-4A46-ABB1-28D90518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702BF-1B2F-4242-A84D-04E2F78A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A6248-D5AB-40EA-88DA-93A826C6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9B61-C1E8-42F1-943C-EFE1F0397999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955F-128F-4DC8-844E-0719B031487A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D3C4-5C5C-403B-AD25-7FB2D5203B08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0D2D-FB47-4334-B5C9-823419716421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99D7-217A-4B50-99DE-7E7D26960CCD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5E87-E02B-4E08-A56C-B962995D2142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9F24-63C8-4CC9-AB5A-B3A6145023E0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6049-7D90-48E2-8268-9B18A5DBA04A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320A-27CC-4B6A-9AD5-1DC15D56B319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259D-77B2-42CF-A4BF-0BCDD8CD13DB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E627-DDE4-4507-A187-B3AC2C3D1D48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4000" y="2852640"/>
            <a:ext cx="7848360" cy="139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6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第十章 纤毛虫</a:t>
            </a:r>
            <a:br>
              <a:rPr sz="4800"/>
            </a:br>
            <a:r>
              <a:rPr b="1" lang="en-US" sz="4800" spc="-1" strike="noStrike">
                <a:solidFill>
                  <a:srgbClr val="0000cc"/>
                </a:solidFill>
                <a:latin typeface="宋体"/>
                <a:ea typeface="宋体"/>
              </a:rPr>
              <a:t>Ciliate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结肠小袋纤毛虫</a:t>
            </a:r>
            <a:br>
              <a:rPr sz="4800"/>
            </a:br>
            <a:r>
              <a:rPr b="1" i="1" lang="en-US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Balantidium coli</a:t>
            </a:r>
            <a:endParaRPr b="0" lang="en-US" sz="48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403280" y="5300640"/>
            <a:ext cx="640080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图片 5" descr=""/>
          <p:cNvPicPr/>
          <p:nvPr/>
        </p:nvPicPr>
        <p:blipFill>
          <a:blip r:embed="rId2"/>
          <a:stretch/>
        </p:blipFill>
        <p:spPr>
          <a:xfrm>
            <a:off x="1835280" y="3976560"/>
            <a:ext cx="3201840" cy="2881440"/>
          </a:xfrm>
          <a:prstGeom prst="rect">
            <a:avLst/>
          </a:prstGeom>
          <a:ln w="0">
            <a:noFill/>
          </a:ln>
        </p:spPr>
      </p:pic>
      <p:pic>
        <p:nvPicPr>
          <p:cNvPr id="491" name="图片 4" descr=""/>
          <p:cNvPicPr/>
          <p:nvPr/>
        </p:nvPicPr>
        <p:blipFill>
          <a:blip r:embed="rId3"/>
          <a:stretch/>
        </p:blipFill>
        <p:spPr>
          <a:xfrm>
            <a:off x="5867280" y="2781360"/>
            <a:ext cx="3043440" cy="30240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形态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8360" y="1268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：椭圆形，无色透明或淡灰绿色，全身披有纤毛。有胞口、胞肛结构。虫体中、后部各有一伸缩泡。染色标本可见大、小核各一个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4" name="矩形 2"/>
          <p:cNvSpPr/>
          <p:nvPr/>
        </p:nvSpPr>
        <p:spPr>
          <a:xfrm>
            <a:off x="324000" y="3068640"/>
            <a:ext cx="7993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或近球形，淡黄或淡绿色，囊壁厚，染色后可见明显的大核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内容占位符 2" descr=""/>
          <p:cNvPicPr/>
          <p:nvPr/>
        </p:nvPicPr>
        <p:blipFill>
          <a:blip r:embed="rId2"/>
          <a:stretch/>
        </p:blipFill>
        <p:spPr>
          <a:xfrm>
            <a:off x="1990800" y="1262160"/>
            <a:ext cx="5533920" cy="502452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生活史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grpSp>
        <p:nvGrpSpPr>
          <p:cNvPr id="497" name="组合 5"/>
          <p:cNvGrpSpPr/>
          <p:nvPr/>
        </p:nvGrpSpPr>
        <p:grpSpPr>
          <a:xfrm>
            <a:off x="2241720" y="1346040"/>
            <a:ext cx="5287680" cy="4365720"/>
            <a:chOff x="2241720" y="1346040"/>
            <a:chExt cx="5287680" cy="4365720"/>
          </a:xfrm>
        </p:grpSpPr>
        <p:sp>
          <p:nvSpPr>
            <p:cNvPr id="498" name="TextBox 3"/>
            <p:cNvSpPr/>
            <p:nvPr/>
          </p:nvSpPr>
          <p:spPr>
            <a:xfrm>
              <a:off x="3852000" y="32850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人体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99" name="TextBox 6"/>
            <p:cNvSpPr/>
            <p:nvPr/>
          </p:nvSpPr>
          <p:spPr>
            <a:xfrm>
              <a:off x="2241720" y="32958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宋体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0" name="TextBox 7"/>
            <p:cNvSpPr/>
            <p:nvPr/>
          </p:nvSpPr>
          <p:spPr>
            <a:xfrm>
              <a:off x="3973680" y="169992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脱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1" name="TextBox 8"/>
            <p:cNvSpPr/>
            <p:nvPr/>
          </p:nvSpPr>
          <p:spPr>
            <a:xfrm>
              <a:off x="6372000" y="2915280"/>
              <a:ext cx="1080000" cy="36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2" name="TextBox 9"/>
            <p:cNvSpPr/>
            <p:nvPr/>
          </p:nvSpPr>
          <p:spPr>
            <a:xfrm>
              <a:off x="6197760" y="4016160"/>
              <a:ext cx="13316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结肠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定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3" name="TextBox 10"/>
            <p:cNvSpPr/>
            <p:nvPr/>
          </p:nvSpPr>
          <p:spPr>
            <a:xfrm>
              <a:off x="2700000" y="1346040"/>
              <a:ext cx="1448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感染期包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4" name="矩形 4"/>
            <p:cNvSpPr/>
            <p:nvPr/>
          </p:nvSpPr>
          <p:spPr>
            <a:xfrm>
              <a:off x="3973680" y="522936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5" name="矩形 12"/>
            <p:cNvSpPr/>
            <p:nvPr/>
          </p:nvSpPr>
          <p:spPr>
            <a:xfrm>
              <a:off x="2268360" y="535140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1187280" y="691920"/>
            <a:ext cx="77774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史过程：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寄生部位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结肠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殖方式：以二分裂为主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传染源：猪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阶段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期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方式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致病与诊断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：滋养体分泌透明质酸酶并借助机械运动侵入结肠黏膜及黏膜下层，引起溃疡（似溶组织内阿米巴痢疾）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可能是一种机会致病原虫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、急性型和慢性型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：即初期潜伏型。在粪便中可找到虫体，但无相关症状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2"/>
          <p:cNvSpPr/>
          <p:nvPr/>
        </p:nvSpPr>
        <p:spPr>
          <a:xfrm>
            <a:off x="468360" y="3429000"/>
            <a:ext cx="8280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接涂片查滋养体，乙状结肠镜取黏膜组织活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0" name="矩形 3"/>
          <p:cNvSpPr/>
          <p:nvPr/>
        </p:nvSpPr>
        <p:spPr>
          <a:xfrm>
            <a:off x="382680" y="714240"/>
            <a:ext cx="8286480" cy="17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型：即痢疾型。发病突然，腹痛、腹泻、黏液血便；可有并发症，也可累及肠外组织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性型：周期性腹泻，或腹泻、便秘交替，常排出黏液但无脓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流行与防治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流行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755640" y="11966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世界性分布。在我国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省、自治区有散在病例报道。宿主广，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动物可感染此虫，猪为重要的传染源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粪便污染及蝇的机械携带包嚢是重要的传播方式，主要是包嚢污染的食物和饮水经口感染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防治原则同溶组织内阿米巴，注意个人和饮食卫生，加强猪粪便的管理，保护水源，用甲硝唑治疗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3:12:27Z</dcterms:created>
  <dc:creator>shi</dc:creator>
  <dc:description/>
  <dc:language>en-US</dc:language>
  <cp:lastModifiedBy>hzg</cp:lastModifiedBy>
  <dcterms:modified xsi:type="dcterms:W3CDTF">2015-10-05T12:54:03Z</dcterms:modified>
  <cp:revision>27</cp:revision>
  <dc:subject/>
  <dc:title>结肠小袋纤毛虫 Balantidium coli</dc:title>
</cp:coreProperties>
</file>